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47B-E6C7-4698-B878-EE8E1F96BDF8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1C0-6582-45B1-BAB3-17013EF67C8A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4F2-43A0-4564-A456-2CB11FF2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62E-1191-414F-AEEE-62702B5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D27-3423-48A3-AEDC-197634B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05B-381A-419C-BE96-25816DF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6BE-96BD-43D9-92BA-1C4A3A2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C8F-6682-445D-9B1E-57EAC13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E1-46BE-46DB-ACAD-4383768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BB5-74F7-4914-9680-6FAB6E8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1B9-67BC-4C38-BA7F-59FA9BB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D50-09BC-405F-8421-667DF609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ED2-D292-45B2-87F2-604A9020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5CB-EBE4-4912-98F0-3227B3C1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9EB3-ED81-4C95-85A1-4C4BCF45B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023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19T17:25:28Z</dcterms:modified>
  <cp:revision>218</cp:revision>
  <dc:subject/>
  <dc:title>Urodjene srcane mane</dc:title>
</cp:coreProperties>
</file>